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AFC-DB83-4706-A7B6-776F76CF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922-0023-4DD3-A9E4-61A7EF22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1BF-5A06-4F37-9AA1-FEF92501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7E4-04AB-4668-8DD0-0DCDBE4E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A8E-BABE-47EC-B41D-CD9EF674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FB8-F281-42A1-9AA7-1BC7D370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E4B-5D88-4DE2-9169-8493A8A6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718-18E4-471A-847D-E4DE9965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E4F-BE55-4023-B4AF-C457F4EB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5D1-04A8-450E-BFC5-81D3956F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87E-93B9-4C51-B1D7-104C220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727-72C6-4F87-9EB0-CBB51B4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18E5-97FD-4F3E-A2D1-B39076B81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0400" y="3042720"/>
            <a:ext cx="844704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"/>
              </a:rPr>
              <a:t>Low-Power SRAM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Bodoni"/>
              </a:rPr>
              <a:t>ECE 4332 Fall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0120" y="4575240"/>
            <a:ext cx="6619680" cy="19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Team 2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Yanran C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Cary Conver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Chenqian G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af0d"/>
                </a:solidFill>
                <a:latin typeface="Arial"/>
              </a:rPr>
              <a:t>David Mo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ingle Bit ECC, continu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quires significant overhea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ditional components requir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rity generation/check circuits: X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rection circuit: Inverter, 2:1 Multiplex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3040" y="228600"/>
            <a:ext cx="91440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af0d"/>
                </a:solidFill>
                <a:latin typeface="Bodoni"/>
              </a:rPr>
              <a:t>ECC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9000" y="2361960"/>
            <a:ext cx="44895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Parity Bit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(at writ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ent Placeholder 6" descr="ECCparity.png"/>
          <p:cNvPicPr/>
          <p:nvPr/>
        </p:nvPicPr>
        <p:blipFill>
          <a:blip r:embed="rId1"/>
          <a:stretch/>
        </p:blipFill>
        <p:spPr>
          <a:xfrm>
            <a:off x="279360" y="3124080"/>
            <a:ext cx="4489560" cy="2324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3280" y="1752480"/>
            <a:ext cx="495324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Parity Checking &amp; Corr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(at rea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ontent Placeholder 7" descr="ECCfix.png"/>
          <p:cNvPicPr/>
          <p:nvPr/>
        </p:nvPicPr>
        <p:blipFill>
          <a:blip r:embed="rId2"/>
          <a:stretch/>
        </p:blipFill>
        <p:spPr>
          <a:xfrm>
            <a:off x="5160960" y="2519280"/>
            <a:ext cx="44910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Design Considera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nsure Voltage is high enough to protec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void extreme delay due to low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ze impact of ECC on area, del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mory block divisi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Block Siz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709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deoff between block complexity and top level complex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maller blocks have lower access energy as shown using data from an early mod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ditional blocks require wider output muxes, more complicated distribution of Inpu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ose to use 16 256x256 blocks - later extended for EC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image (2).png"/>
          <p:cNvPicPr/>
          <p:nvPr/>
        </p:nvPicPr>
        <p:blipFill>
          <a:blip r:embed="rId1"/>
          <a:stretch/>
        </p:blipFill>
        <p:spPr>
          <a:xfrm>
            <a:off x="2565360" y="4191120"/>
            <a:ext cx="51814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ayout/ Notes on topolog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gh Vt bitcells to reduce leakage, and require less cell ratio, pull down ratio </a:t>
            </a:r>
            <a:r>
              <a:rPr b="0" lang="en-US" sz="2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reduced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locks of memory to decrease WL capacitanc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320840" y="3657600"/>
            <a:ext cx="73054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4-Bitcell Arr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07960" y="2336760"/>
            <a:ext cx="9144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60240" y="4114800"/>
            <a:ext cx="9042480" cy="3016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Block Layout (64kb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03040" y="1752480"/>
            <a:ext cx="9664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 Row Periphery, Column Periphery Comple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ray consumes majority of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s metal4 and l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7680" y="1371600"/>
            <a:ext cx="96645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CE 4332 2009 Group Projects Pages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Va ECE Wik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axiras, S., Zhigang, H., &amp; Martonosi, M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che Decay: Exploit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ional Behavior to Reduce Cache Leakage Pow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ational Symposium on Computer Architecture,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g, S., Kim, Y. B., &amp; Lombardi, F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Low-Leakage 9T SRAM Cel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 Ultra-Low Power Ope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baey, J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gital Integrated Circuits: A Design Perspectiv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nt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ll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yan, J. F., &amp; Calhoun, B. H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nimizing Offset for Latching Volt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de Sense Amplifiers for Sub-Threshold Ope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national Symposium on Quality Electronic Design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ng, A., Calhoun, B. H., &amp; Chandrakasan, A. P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-Threshol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gn for Ultra Low-Power Syste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Springer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tri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ric = (Active Energy per Access)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*Delay*Area*Idle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tive Energy per Access = 9.704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lay = 7.186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ea = ~1.2 mm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le Power = 57.78 u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Our Metric = 4.692e-41 J</a:t>
            </a:r>
            <a:r>
              <a:rPr b="1" i="1" lang="en-US" sz="2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*s*mm</a:t>
            </a:r>
            <a:r>
              <a:rPr b="1" i="1" lang="en-US" sz="29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*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tric Breakdown Valu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9120" y="1831680"/>
            <a:ext cx="9661680" cy="56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Bitcell Area = 0.649 um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d Energy = 9.678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Energy = 9.834 f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ad Delay = 7.186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Delay = 6.491 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le Power = 57.71 uW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h 0.3 V VDD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sleep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=&gt; 0.483 u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Full SRAM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422360" y="1752480"/>
            <a:ext cx="7248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Memory Block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1951200"/>
            <a:ext cx="101599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pecial Features Overvi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tching Voltage Sense Amplif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ow Voltage (w/ sleep mod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ngle Bit Error Correcting Cod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atching Voltage Sense Amplifi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280" y="1819080"/>
            <a:ext cx="3708720" cy="54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nimizes BL sagging to reduce the energy/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faster rea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860640" y="2133720"/>
            <a:ext cx="613440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514760" y="6299280"/>
            <a:ext cx="448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dified from Ryan &amp; Calhoun, 200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Low Volt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ta Retention Voltag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.6 V for active op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0.3 V for sleep m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LD butterfly plots at l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oltages indicate data c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retained when sleep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as low as 0.3 V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299280" y="1015920"/>
            <a:ext cx="3517920" cy="6108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327640" y="1117440"/>
            <a:ext cx="10936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Sleep VD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35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30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e69138"/>
                </a:solidFill>
                <a:latin typeface="Georgia"/>
              </a:rPr>
              <a:t>0.25v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eaf0d"/>
                </a:solidFill>
                <a:latin typeface="Bodoni"/>
              </a:rPr>
              <a:t>Single Bit Error Correcting Cod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7360"/>
            <a:ext cx="966456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orta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ensate for smaller SNMs due to lower volt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intaining important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mming Cod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6 Parity 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2 Data B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correction of 1 error per word, detection of 2 errors per wo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termine parity bits at Wr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rect word at Rea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crc4m</cp:lastModifiedBy>
  <dcterms:modified xsi:type="dcterms:W3CDTF">2010-12-07T13:36:51Z</dcterms:modified>
  <cp:revision>21</cp:revision>
  <dc:subject/>
  <dc:title>PowerPoint Presentation</dc:title>
</cp:coreProperties>
</file>